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B6D-485F-4678-B58E-3182A280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D4D0-1E83-42B0-9CF8-08AE7DD1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B09-53B1-4038-86FC-30EE2090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0DA-CEED-4DF4-B075-C844DFFE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73F2-8A74-4EB2-9F7A-26F05272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E155-3F7E-411C-93AA-358A8566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E0D4-4A11-4EF6-9BF6-690AA6C1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2D0A-4438-43D4-AECE-740A99C2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7BD9-6FAD-4624-A566-BFFC1034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93F8-0E79-4208-A28C-498E0372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9BB4-3669-4840-89A1-9C467ADA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DE8-56E1-4E0E-B741-51F0E37A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201A-FF24-4B72-933A-33D6B537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3EBE-7596-499E-8A60-3E387556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A996-8CF3-4661-A535-B7DE50B2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AB60-8543-4D3C-8BD3-FF44E263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BB0F-4FB8-4E73-8551-C0634B42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E74-C07C-4DD4-A94D-BFB02295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7A4-D0F5-4B65-83FD-E05C2D67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2FB-2163-46CA-988A-7F0CBBEA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CD7-E795-4B17-8233-839F23D7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234-5943-4F88-A962-47F08A49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D50-4988-4A70-9640-BDB99FD2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AE2-A676-4223-9CE9-CBC98A61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6537-D8D1-4A9E-B330-AFA4B11C0C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1B83-2FEA-428F-8A6E-0A2F4D8200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42040" y="4270680"/>
            <a:ext cx="745992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as Comi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or: Allie O’Bri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5" descr="food"/>
          <p:cNvPicPr/>
          <p:nvPr/>
        </p:nvPicPr>
        <p:blipFill>
          <a:blip r:embed="rId1"/>
          <a:stretch/>
        </p:blipFill>
        <p:spPr>
          <a:xfrm>
            <a:off x="1828800" y="762120"/>
            <a:ext cx="5181480" cy="3124080"/>
          </a:xfrm>
          <a:prstGeom prst="rect">
            <a:avLst/>
          </a:prstGeom>
          <a:ln w="0">
            <a:noFill/>
          </a:ln>
        </p:spPr>
      </p:pic>
    </p:spTree>
  </p:cSld>
  <p:transition spd="slow" advTm="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04960" y="19512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Desayun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11426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 el desayuno me gusta com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63360" y="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63360" y="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3233880" y="2576520"/>
            <a:ext cx="267624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1" descr="waffles"/>
          <p:cNvPicPr/>
          <p:nvPr/>
        </p:nvPicPr>
        <p:blipFill>
          <a:blip r:embed="rId1"/>
          <a:stretch/>
        </p:blipFill>
        <p:spPr>
          <a:xfrm>
            <a:off x="4191120" y="4724280"/>
            <a:ext cx="2286000" cy="184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fruit-salad3"/>
          <p:cNvPicPr/>
          <p:nvPr/>
        </p:nvPicPr>
        <p:blipFill>
          <a:blip r:embed="rId2"/>
          <a:stretch/>
        </p:blipFill>
        <p:spPr>
          <a:xfrm>
            <a:off x="1066680" y="2590920"/>
            <a:ext cx="2514600" cy="167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orange_juice"/>
          <p:cNvPicPr/>
          <p:nvPr/>
        </p:nvPicPr>
        <p:blipFill>
          <a:blip r:embed="rId3"/>
          <a:stretch/>
        </p:blipFill>
        <p:spPr>
          <a:xfrm>
            <a:off x="7238880" y="4114800"/>
            <a:ext cx="1764000" cy="261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apple-juice"/>
          <p:cNvPicPr/>
          <p:nvPr/>
        </p:nvPicPr>
        <p:blipFill>
          <a:blip r:embed="rId4"/>
          <a:stretch/>
        </p:blipFill>
        <p:spPr>
          <a:xfrm>
            <a:off x="4114800" y="2590920"/>
            <a:ext cx="2685960" cy="1904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0"/>
          <p:cNvSpPr/>
          <p:nvPr/>
        </p:nvSpPr>
        <p:spPr>
          <a:xfrm>
            <a:off x="1205640" y="43797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s Fruit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7226280" y="35416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umo de Naran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2424240" y="53704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s Gof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6693120" y="27795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umo de Manzan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04960" y="19512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lmuerz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914400"/>
            <a:ext cx="7693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 el almuerzo me gusta com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20070917-lemonade"/>
          <p:cNvPicPr/>
          <p:nvPr/>
        </p:nvPicPr>
        <p:blipFill>
          <a:blip r:embed="rId1"/>
          <a:stretch/>
        </p:blipFill>
        <p:spPr>
          <a:xfrm>
            <a:off x="1066680" y="2514600"/>
            <a:ext cx="2129040" cy="1933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La-Scalia-Chopped-Salad-photo-"/>
          <p:cNvPicPr/>
          <p:nvPr/>
        </p:nvPicPr>
        <p:blipFill>
          <a:blip r:embed="rId2"/>
          <a:stretch/>
        </p:blipFill>
        <p:spPr>
          <a:xfrm>
            <a:off x="6248520" y="47242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subway-sandwich"/>
          <p:cNvPicPr/>
          <p:nvPr/>
        </p:nvPicPr>
        <p:blipFill>
          <a:blip r:embed="rId3"/>
          <a:stretch/>
        </p:blipFill>
        <p:spPr>
          <a:xfrm>
            <a:off x="3352680" y="2666880"/>
            <a:ext cx="2514600" cy="1611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Water-glass"/>
          <p:cNvPicPr/>
          <p:nvPr/>
        </p:nvPicPr>
        <p:blipFill>
          <a:blip r:embed="rId4"/>
          <a:stretch/>
        </p:blipFill>
        <p:spPr>
          <a:xfrm>
            <a:off x="3581280" y="4572000"/>
            <a:ext cx="1841760" cy="2057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4"/>
          <p:cNvSpPr/>
          <p:nvPr/>
        </p:nvSpPr>
        <p:spPr>
          <a:xfrm>
            <a:off x="6159600" y="28558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 Sandwi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6236640" y="407520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a ensala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1054800" y="44560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a Limona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441160" y="6248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agu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04960" y="19512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Meri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 La merienda me gusta com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ANd9GcSQ3SQ-kyjnLGk5W8KDnTgg4rngj6OFR5YDv8ILZqPDeagKqnZcVbJuYGiH"/>
          <p:cNvPicPr/>
          <p:nvPr/>
        </p:nvPicPr>
        <p:blipFill>
          <a:blip r:embed="rId1"/>
          <a:stretch/>
        </p:blipFill>
        <p:spPr>
          <a:xfrm>
            <a:off x="1066680" y="2438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almon-and-avocado-sushi1"/>
          <p:cNvPicPr/>
          <p:nvPr/>
        </p:nvPicPr>
        <p:blipFill>
          <a:blip r:embed="rId2"/>
          <a:stretch/>
        </p:blipFill>
        <p:spPr>
          <a:xfrm>
            <a:off x="6248520" y="46292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watermelon-juice"/>
          <p:cNvPicPr/>
          <p:nvPr/>
        </p:nvPicPr>
        <p:blipFill>
          <a:blip r:embed="rId3"/>
          <a:stretch/>
        </p:blipFill>
        <p:spPr>
          <a:xfrm>
            <a:off x="1752480" y="4572000"/>
            <a:ext cx="1924200" cy="1919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3796560" y="255096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tatas Fritas y Guacamo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721320" y="51418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umo de Sand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311160" y="41511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l sush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04960" y="19512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Ce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914400"/>
            <a:ext cx="7693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 la cena me gusta com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5" descr="88035"/>
          <p:cNvPicPr/>
          <p:nvPr/>
        </p:nvPicPr>
        <p:blipFill>
          <a:blip r:embed="rId1"/>
          <a:stretch/>
        </p:blipFill>
        <p:spPr>
          <a:xfrm>
            <a:off x="990720" y="2514600"/>
            <a:ext cx="2514600" cy="1879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chinese_chicken_wings_1"/>
          <p:cNvPicPr/>
          <p:nvPr/>
        </p:nvPicPr>
        <p:blipFill>
          <a:blip r:embed="rId2"/>
          <a:stretch/>
        </p:blipFill>
        <p:spPr>
          <a:xfrm>
            <a:off x="6172200" y="474336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istockphoto_5842153-milk-bottle-and-glass"/>
          <p:cNvPicPr/>
          <p:nvPr/>
        </p:nvPicPr>
        <p:blipFill>
          <a:blip r:embed="rId3"/>
          <a:stretch/>
        </p:blipFill>
        <p:spPr>
          <a:xfrm>
            <a:off x="1066680" y="45720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quick-and-easy-chicken-noodle-soup1"/>
          <p:cNvPicPr/>
          <p:nvPr/>
        </p:nvPicPr>
        <p:blipFill>
          <a:blip r:embed="rId4"/>
          <a:stretch/>
        </p:blipFill>
        <p:spPr>
          <a:xfrm>
            <a:off x="6705720" y="25146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9"/>
          <p:cNvSpPr/>
          <p:nvPr/>
        </p:nvSpPr>
        <p:spPr>
          <a:xfrm>
            <a:off x="4578840" y="6248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l Poll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3284280" y="48769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5493960" y="26668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Sop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3522240" y="403848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l Macarrones Con Ques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0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10000" y="124560"/>
            <a:ext cx="7828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Desier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83808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 el desierto me gusta come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2" descr="http://scm-l3.technorati.com/11/06/15/45159/smoothie.gif?t=20110615100121"/>
          <p:cNvPicPr/>
          <p:nvPr/>
        </p:nvPicPr>
        <p:blipFill>
          <a:blip r:embed="rId1"/>
          <a:stretch/>
        </p:blipFill>
        <p:spPr>
          <a:xfrm>
            <a:off x="914400" y="2438280"/>
            <a:ext cx="2819520" cy="187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www.mydrinkworks.com/MyDrinkWorks/Images/80_Recipe.jpg"/>
          <p:cNvPicPr/>
          <p:nvPr/>
        </p:nvPicPr>
        <p:blipFill>
          <a:blip r:embed="rId2"/>
          <a:stretch/>
        </p:blipFill>
        <p:spPr>
          <a:xfrm>
            <a:off x="7391520" y="4267080"/>
            <a:ext cx="1600200" cy="2336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://www.duncanhines.com/content/products/product/15/hero-chocolate-chip-cookie-mix.jpg"/>
          <p:cNvPicPr/>
          <p:nvPr/>
        </p:nvPicPr>
        <p:blipFill>
          <a:blip r:embed="rId3"/>
          <a:stretch/>
        </p:blipFill>
        <p:spPr>
          <a:xfrm>
            <a:off x="990720" y="4952880"/>
            <a:ext cx="2666880" cy="154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2.bp.blogspot.com/_MHtRnLjgdiI/TNGQiwvmm1I/AAAAAAAAACA/V4GJnGrOMYM/s1600/vanilla-ice-cream.jpg"/>
          <p:cNvPicPr/>
          <p:nvPr/>
        </p:nvPicPr>
        <p:blipFill>
          <a:blip r:embed="rId4"/>
          <a:stretch/>
        </p:blipFill>
        <p:spPr>
          <a:xfrm>
            <a:off x="6858000" y="2590920"/>
            <a:ext cx="2057400" cy="15332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8"/>
          <p:cNvSpPr/>
          <p:nvPr/>
        </p:nvSpPr>
        <p:spPr>
          <a:xfrm>
            <a:off x="1155600" y="42670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l Batido De Frut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3742200" y="6019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Galle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5121360" y="47242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l Frappe De Caramel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5265720" y="27432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l Hela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12:11Z</dcterms:created>
  <dc:creator>allie o'brien</dc:creator>
  <dc:description/>
  <dc:language>en-US</dc:language>
  <cp:lastModifiedBy>Brandi</cp:lastModifiedBy>
  <dcterms:modified xsi:type="dcterms:W3CDTF">2012-04-04T19:59:07Z</dcterms:modified>
  <cp:revision>10</cp:revision>
  <dc:subject/>
  <dc:title>Las Comidas</dc:title>
</cp:coreProperties>
</file>